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9E7C-2525-40F7-A026-6384DD79A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BB9-5B6E-47C8-BCB3-896C3A30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0188-627D-4A3F-BA18-42155B4E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046-FAB1-474A-9FD7-39A71B3BB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7C89-8B7A-4E72-B349-F8618282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6922-FC61-44C6-BF35-24075FBA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F003-AD1A-4F00-BD97-4717F68D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A85A-4021-4757-A61B-260D46AF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26C7-5A24-4F3E-B0CF-D95AC98D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ED95-16D1-4C4E-8285-44910FE1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2FB4-3178-4E0C-A258-EEFF38FF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BB5-67DA-49D4-A194-104B2601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35F2-2E3A-4D88-A186-07F23CF1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11224-7A43-43BF-9052-9F131459F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5727-9D76-4E71-969D-3B65C6A3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E2BE-E4CE-4263-9D05-9887195B3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271C-E5C3-4F40-9623-3913D604C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77C-D67B-42AE-80A3-1056A841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8387-C37D-4E35-B6D1-23279316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98FD-E41B-45A1-9913-B7E41A979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873080"/>
            <a:ext cx="7772400" cy="72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6629-539F-4426-A48E-C9FB57CD5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C904-6E97-47AF-ABA5-A69EF8B4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D56-A845-426A-8403-4492EEE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741-C40B-4963-8CED-BDF25C5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B9C1-9EDA-461D-8C5D-6F554862C4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473F-3CCA-4E5C-9879-2A14637CB7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b2b2b2"/>
                </a:solidFill>
                <a:latin typeface="Arial"/>
              </a:rPr>
              <a:t>180 Days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District SAT Testing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tir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eld Testing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Pep Assemblies (-3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distract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ther Events (-2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otivational Speaker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 Class meetings, etc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617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Counselors Come In To Talk About Scheduling for Next Year 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Days Before Major Vacations (-3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Lots of students absen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rd to focu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3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Absent Students (-4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ny students miss at least four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ays for one reason or another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2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Absent Teachers (-6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Most teachers miss at least six days for professional development, sickness, taking care of sick children, personal day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2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Fire Drills, Bus Evacuation Drills, Duck and Cover Drills, etc. (-2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mulative time missed due to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ire drills, etc. (planned or otherwise)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Celebrations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umulative time missed due to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celebrations in clas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There are 180 days in a school year for </a:t>
            </a:r>
            <a:r>
              <a:rPr b="1" lang="en-US" sz="5400" spc="-1" strike="noStrike">
                <a:solidFill>
                  <a:srgbClr val="ffcc66"/>
                </a:solidFill>
                <a:latin typeface="Arial"/>
              </a:rPr>
              <a:t>instruction</a:t>
            </a: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Inclement Weather –hurricanes, ice, flooding</a:t>
            </a:r>
            <a:br>
              <a:rPr sz="5400"/>
            </a:b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1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180 Days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117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Day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87308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73</a:t>
            </a: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 Days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962520"/>
            <a:ext cx="9144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Time we have </a:t>
            </a:r>
            <a:r>
              <a:rPr b="1" lang="en-US" sz="6000" spc="-1" strike="noStrike">
                <a:solidFill>
                  <a:srgbClr val="ffcc66"/>
                </a:solidFill>
                <a:latin typeface="Arial"/>
              </a:rPr>
              <a:t>wasted (?)</a:t>
            </a:r>
            <a:br>
              <a:rPr sz="6000"/>
            </a:b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n the way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60958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hefischbowl.blogspot.com/2007/04/180-days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873080"/>
            <a:ext cx="89917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Or are there?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 spd="slow" advTm="2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rst Day of School (-1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Distribute textbooks, go over class expectations, fill out index cards, class meetings, icebreak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79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915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End of the School Year (-1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igning yearbooks, hea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end of year stuff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7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12 Tests Given (-12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Assumes once every three week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6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Final Exams (-6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ree days of finals each semest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60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2b2b2"/>
                </a:solidFill>
                <a:latin typeface="Arial"/>
              </a:rPr>
              <a:t>Review Days for Tests and Final Exams (-8)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alf a day for each test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full day for each final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5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2b2b2"/>
                </a:solidFill>
                <a:latin typeface="Arial"/>
              </a:rPr>
              <a:t>TAKS Testing (-10)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895480"/>
            <a:ext cx="9144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hortened classes, strange schedules,</a:t>
            </a:r>
            <a:br>
              <a:rPr sz="4400"/>
            </a:b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students are tired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14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03:49:02Z</dcterms:created>
  <dc:creator>ITS</dc:creator>
  <dc:description/>
  <dc:language>en-US</dc:language>
  <cp:lastModifiedBy>CFISD</cp:lastModifiedBy>
  <dcterms:modified xsi:type="dcterms:W3CDTF">2008-10-01T18:24:46Z</dcterms:modified>
  <cp:revision>140</cp:revision>
  <dc:subject/>
  <dc:title>AHS has 249 new computers this fall. </dc:title>
</cp:coreProperties>
</file>